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30C-D1A1-4F8D-B1A3-D8ABE3B8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6F3-9A62-4D31-B269-F1F9CE47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1EEC-6808-4CD4-983F-48C832EE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444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132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444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132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CB7F-F5F9-4495-BBBD-D4FA350B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8B59-4750-40C5-8386-E11CAEB2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3A38-8A2C-48D3-8222-38E6D4AB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87B1-3FE0-4E58-92EE-17CCEC1E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E4AC-89C4-461F-8AA3-C973F6CB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DAF4-F1E8-4704-AFC3-4464A881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662A-CFD4-408B-8D5C-BAE20468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C9C2-10F5-4460-B39F-747FE599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E0E4-0124-44BA-9FBF-83E2FB5C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2094-5E36-43F4-9174-B80A3C7F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D188-7B64-47D1-9F8C-D3A7AE00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229C-8ACF-43AD-BA3F-E92C3166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5AF7-EC43-4973-8534-612A45BD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444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3132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444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3132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DD9F-C872-4D36-AB42-27516BF8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A65-9935-4838-9363-DCF4A1DC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850-C594-4A46-8A2B-52F76FBD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A33-7050-40DB-962A-42EDCF82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F077-E788-4B6D-A2B4-F2B91D2D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C0EE-50A7-4893-8FDA-2F4A0324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D72-09AD-4777-BCA8-2FD39B8F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786-A8B6-4D0C-8688-E78554E1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481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7692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4004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58B3-26EF-4071-9390-63C2870F84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8195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513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5136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513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7F3A-1BB6-4B18-8F63-634DE74CAF9E}" type="slidenum">
              <a:rPr b="0" lang="en-US" sz="1000" spc="-1" strike="noStrike">
                <a:solidFill>
                  <a:srgbClr val="57bce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8195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Sir, We Would See Jesu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362320" y="44953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Quarter 9, Lesson 14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ges 54-56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uke 8:1-3; Matt. 12:22-50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5442-17FD-42F3-82A4-CCED44829E38}" type="slidenum">
              <a:t>1</a:t>
            </a:fld>
          </a:p>
        </p:txBody>
      </p:sp>
    </p:spTree>
  </p:cSld>
  <p:transition spd="med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Judgment On This Generatio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Ninevites did greater things with less, and therefore would condemn “this generation”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greater than Jonah is here”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Great things happened in Nineveh after Jonah escaped the jaws of death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Queen of Sheba would also condemn “this generation”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greater than Solomon is here”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A689-6154-4DA2-B35C-1F3FBF57B23D}" type="slidenum">
              <a:t>10</a:t>
            </a:fld>
          </a:p>
        </p:txBody>
      </p:sp>
    </p:spTree>
  </p:cSld>
  <p:transition spd="med">
    <p:plus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 Worst State Than The Firs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What happens when a house (heart) is cleaned and decorated, but empty?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harisees were like a former demon-possessed man, re-occupied in a 7-times-worse way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esus was dealing with a wicked generation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0D9F-ECED-4257-9B73-41FE58331BE5}" type="slidenum">
              <a:t>11</a:t>
            </a:fld>
          </a:p>
        </p:txBody>
      </p:sp>
    </p:spTree>
  </p:cSld>
  <p:transition spd="med">
    <p:plus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Jesus’ Mother and Brethre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esus had an earthly family wanting to see Him – Matt. 12:46-47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esus did not teach the idea of the superiority of Mary – Luke 11:27-28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esus said that all obedient to the Father would be equally related to Him – Matt. 12:48-50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obedient are most special to Jesu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ary did not have a corner on obedience to God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40A-593B-410D-BC42-232594209D27}" type="slidenum">
              <a:t>12</a:t>
            </a:fld>
          </a:p>
        </p:txBody>
      </p:sp>
    </p:spTree>
  </p:cSld>
  <p:transition spd="med">
    <p:plus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Great Galilean Ministry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837720"/>
            <a:ext cx="4114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apernaum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postles Called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Great Multitude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any Miracle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rmon on the Mount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irst Opposition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any Parable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mited Commission 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ohn Beheaded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3809880"/>
            <a:ext cx="2590920" cy="520560"/>
          </a:xfrm>
          <a:prstGeom prst="rect">
            <a:avLst/>
          </a:prstGeom>
          <a:noFill/>
          <a:ln w="38160">
            <a:solidFill>
              <a:srgbClr val="57b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bcef"/>
                </a:solidFill>
                <a:latin typeface="Tahoma"/>
              </a:rPr>
              <a:t>We are here.</a:t>
            </a:r>
            <a:endParaRPr b="0" lang="en-US" sz="2800" spc="-1" strike="noStrike">
              <a:solidFill>
                <a:srgbClr val="57bce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4114800"/>
            <a:ext cx="1600200" cy="0"/>
          </a:xfrm>
          <a:prstGeom prst="line">
            <a:avLst/>
          </a:prstGeom>
          <a:ln w="57240">
            <a:solidFill>
              <a:srgbClr val="57bce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7bce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8CC-0727-4604-9933-BE6A645E7ACE}" type="slidenum">
              <a:t>2</a:t>
            </a:fld>
          </a:p>
        </p:txBody>
      </p:sp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505320" y="3222720"/>
            <a:ext cx="5638680" cy="3635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791320" y="762120"/>
            <a:ext cx="25336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rea of Jesus'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cond Tour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f Galilee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A38E-1373-45E4-84DC-CE87C23464C7}" type="slidenum">
              <a:t>3</a:t>
            </a:fld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econd Tour of Galilee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esus’ Teaching Was About The Good News of the Kingdom of God –         Luke 8:1-3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Kingdom was “at hand” (almost here)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King had an urgent messag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King had a wonderful messag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King had His Twelve with Him 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King was helped and supported by noteworthy women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esus was busy doing His work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315-D7A1-4DA4-975C-AC06F6402E92}" type="slidenum">
              <a:t>4</a:t>
            </a:fld>
          </a:p>
        </p:txBody>
      </p:sp>
    </p:spTree>
  </p:cSld>
  <p:transition spd="med">
    <p:plus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harisees “Explain” Jesus’ Mirac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occasion of healing a demon-possessed man – Matt. 12:22-30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eople: “Is not this the son of David?”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harisees: “He gets his power from Satan”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esus: “Then Satan is working against himself; his house will fall”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re is no neutrality between the kingdom of Christ and that of Satan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E741-8E91-43EA-AB6E-228A5C8D7BF0}" type="slidenum">
              <a:t>5</a:t>
            </a:fld>
          </a:p>
        </p:txBody>
      </p:sp>
    </p:spTree>
  </p:cSld>
  <p:transition spd="med">
    <p:plus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harisees Blasphemed the Holy Spiri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Blasphemy – the speaking evil of God; speech injurious to another’s good name; irreverent words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Pharisees blasphemed the Holy Spirit by attributing Jesus’ miracles to the power of Satan – “He hath an unclean spirit” (Mark 3:30)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It shall not be forgiven in the Jewish age or the Christian ag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Blasphemy against Jesus and all other sins can be forgiven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6644-616D-4988-8F09-8542AB1348C0}" type="slidenum">
              <a:t>6</a:t>
            </a:fld>
          </a:p>
        </p:txBody>
      </p:sp>
    </p:spTree>
  </p:cSld>
  <p:transition spd="med">
    <p:plus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Unpardonable Sin”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A state of willful, determined opposition to God and the Holy Spirit where no efforts will avail to lead one to repentance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When one rejects the work of the Holy Spirit, there is no more testimony and no more opportunity to repent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What else is available for this one to gain salvation? 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003-CA1A-4B12-8101-370ECE0EBD34}" type="slidenum">
              <a:t>7</a:t>
            </a:fld>
          </a:p>
        </p:txBody>
      </p:sp>
    </p:spTree>
  </p:cSld>
  <p:transition spd="med">
    <p:plus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harisees “Explain” Jesus’ Mirac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esus explained the motives of the Pharisees – Matt. 12:33-37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rrupt trees have bad output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he tree is known by its fruit</a:t>
            </a:r>
            <a:endParaRPr b="1" lang="en-US" sz="24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oisonous snakes release their venom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An evil one cannot speak good things</a:t>
            </a:r>
            <a:endParaRPr b="1" lang="en-US" sz="24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y will give account for their word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Justified? Or Condemned?</a:t>
            </a:r>
            <a:endParaRPr b="1" lang="en-US" sz="2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34A1-484B-47A6-A67F-E0F8CE6985C0}" type="slidenum">
              <a:t>8</a:t>
            </a:fld>
          </a:p>
        </p:txBody>
      </p:sp>
    </p:spTree>
  </p:cSld>
  <p:transition spd="med">
    <p:plus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cribes and Pharisees Ask For A Sig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Will a new one do the trick?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- Matt. 12:38-45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y will have to wait and deal with the sign of the prophet Jonah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onas was three days in the whal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esus will be three days in the earth 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esus’ death, burial, and resurrection would be the ultimate sign to explain away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2170-19E7-4150-9898-0E3FAB4B1B3D}" type="slidenum">
              <a:t>9</a:t>
            </a:fld>
          </a:p>
        </p:txBody>
      </p:sp>
    </p:spTree>
  </p:cSld>
  <p:transition spd="med">
    <p:plus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8T14:04:43Z</dcterms:created>
  <dc:creator>Terry W. Benton</dc:creator>
  <dc:description/>
  <dc:language>en-US</dc:language>
  <cp:lastModifiedBy>Frank D Vines</cp:lastModifiedBy>
  <dcterms:modified xsi:type="dcterms:W3CDTF">2006-08-27T13:17:49Z</dcterms:modified>
  <cp:revision>11</cp:revision>
  <dc:subject/>
  <dc:title>Sir, We Would See Jesus</dc:title>
</cp:coreProperties>
</file>